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811C-22E5-416B-BD84-8D2400C59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6DD2-F0D1-47FE-9465-971616EA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ED355-3C73-44B7-A2C2-FEDD4C25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82B48-4FC7-4D49-AF67-71BE16BC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10C74B-7A56-4B34-A3FB-9EE50FFC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390FE6-4AEF-4D2B-A104-8D19B49C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2FF27-8768-4089-BD34-3A8A2671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F8ACA3-F00E-4176-8E88-16359B1A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7E151-E164-4091-906F-C105471A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22CA6B-AB9C-4707-B9FA-8EE502CD1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282D2-6824-4A9D-AAE3-4FFE5155E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68ACC7-B73E-4C72-AEF3-CFFDE40F6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B59A-C2FF-43B0-94A6-2E432CBFD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262DE-C133-4319-B87E-06CC6394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A4C738-8C9C-4290-B96A-8B7854C1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02395E-5CB0-4549-AE4D-301BC071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9EFDF-892B-48D0-A732-971C151A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938F22-57FB-4EDA-9AC0-5A3AF570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AFFAB7-D071-4FE2-97D5-328F9FF5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A6A9FB-4A25-4BFF-994C-B4283CA0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60E490-A523-457B-BEB9-71451203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89E1CE-6C5A-484E-B4C2-8E1497BA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0B8615-12D3-4763-85F4-DECC725C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9506-C491-4E6A-B7AB-675B3CE98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82628-04F7-423A-B6DC-131044920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113B5-0EE0-4AAB-BAD5-97D3EF9B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92894-74E5-4517-94DB-4540474F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FC2FC-11F6-401E-85DC-8F9A9A12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9BA75-B903-4F5F-861D-80F64EBA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02D4E-3840-4D0E-9406-42098F1E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0FEA9-B86B-4F86-B6E2-30F2AB30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64AB6-F7B3-45BB-B07F-FBDDBFCA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78EEC-10D6-4EDB-A495-806E429E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7B6DD-4E63-456E-BF61-44598CD6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9B5D-1E79-482F-95C9-97017A4BA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582E1-76D1-40CF-BA9F-71EDFA6B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27F55-C7EE-4F53-AE21-3AAB89AB0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C311B-9976-4197-AC52-9D4DF4029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836175-AAE0-497C-B24A-47D86AA18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A8BEC7-2C67-4827-B1BC-447E3C1C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16BB30-A905-40D7-86FB-5E12E293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7954AD-A85D-4308-B170-3533A0EB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B563B1-CE7D-4320-980E-04C54DD2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51B131-2EF1-46B5-B7D5-DCAEDD64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D8AE8A-5536-476D-A420-DE840FD5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7BFA-3B82-4736-AC37-303EEA3C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2268D2-F0DB-479C-9B72-CE21B519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21B746-CB6B-4C37-B0F5-82758A5F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CD2875-4601-4420-9BAB-97219052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C03553-0AD5-4496-9ADF-D40CC02B2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A769DD-FFA2-461A-A594-D6D981205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67E2-59DD-425D-A65C-4FF93A2D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D616-6568-4A79-A0CA-D1CB3CAD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D72B-B2CC-4573-B868-151B1341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9CFA-F567-4A8A-AFAB-83CA3381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59DE-CC79-438E-A333-727D0515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2F68-8726-477E-B957-C50B8774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E968-F09E-4FC3-8B27-D3D48BEA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48A3-9AE9-46E2-A1A8-D4F0AE72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CAF0-84BC-4BEB-8F7E-94B75A48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B830-A2E7-41B3-B837-3D1EA0602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5DBD-B2C9-4FD8-9F93-534EC93AB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3D7E5-15BC-4D26-8A59-D7E8B6301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1D81D-6EC1-4639-B257-EE55D130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31056-CF33-4FCF-92E0-F66D3891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A6B10-F954-4E46-A32E-05E17732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735CB-BAF8-485E-8BA2-2112EDDD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4E68-A51A-44EB-AD0C-515264D0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83CB2-3998-4C42-BC71-40543A00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D9342-5240-49BC-B002-5CE3514D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E177D-7124-46ED-BB8D-2953E0BF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58BAF-CFCD-4F3B-842C-DD2DA417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E25E1-8C87-4C40-838E-3F89BADC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6A032-DDB6-4F70-BDEE-710CDDDB3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F6BC8-BB41-4359-B35B-EFC8336C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381B5-64E2-43EC-8512-A51CD02DE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C30F4-0F0C-4D80-9660-5C9F62B2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15C37-E694-40A9-B585-198637C8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5D09-F462-46A3-A65A-328D209C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4AC0E-3C59-413B-A026-330C72E1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915B7-110E-437C-B8AF-69FA3493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87AA7-0A35-4714-8913-71035475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D49E1-5240-475D-9493-0D9F4706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D1383-DE66-4AC2-BDB4-0539399F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EBD0F-1838-477A-A09A-EF89717D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9BAD1-D7C0-4F37-AC0C-2C729FBE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EE7D7-782E-4E35-A004-DA0678544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CB5B5-19BD-41AA-BF95-D7A0B8582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27468-1D44-4C7B-8421-7C050E6B7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44C4-D5D6-4066-B734-8C22BD99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260C9-930C-4DDA-93F9-18413AF0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B033D-98FF-4B89-826F-1ADE3969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9246A-EAB9-471D-8E91-324858C1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9CB5E-F239-4C80-A221-D60086AE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F7DF4-C45B-461E-9D83-78A64968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2721F-66EE-4C83-AA66-4BC433E7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A234D-D49A-465A-95BE-123E40B9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43710-9B0C-495F-A420-5C1A32FB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FA3D0-9988-477A-90A8-0FE01298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9B5FE-0ADD-4AC0-8DA4-B6824A746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A894-4496-4061-9D14-9621F700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DAB91-9D49-4A6A-ABEE-85E07567B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312A2-3B37-41DF-A2E7-ADC259850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A9940-73CC-4F30-896C-C4A8D88A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4B809-B04F-4764-BC8D-6D83F1E8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C605F-FC1D-4764-B4D1-7103B795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021D3-D677-4335-8C6F-825215E4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D1951-5E93-4D1A-9DB1-0448EA8C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9243B-F108-454D-BBB8-24986A6F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6B0AC-3397-4593-97A8-21FBADEA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61A5C-F4E6-49A7-B7EC-23F569E5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2073-8D73-4842-B666-DBEF2706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BC714-2125-4241-9187-484B6D9A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E8BFC-0798-4AAF-BB3D-EAC90D095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ED8CB-4802-410D-9DF8-2E61159A3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BDF47-23F7-46C4-8AB6-261C53C91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85E36-FE7B-4506-AFF4-FE5C222F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7EE53-1B95-4399-B1B0-934DFB4A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FF886-C7D0-4B64-A303-749AE5C9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B1967-5003-4FCC-BADB-3ABC7501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BEAD8-4971-41DF-AC20-A481A2BF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85111-DFE0-486B-BD01-D15AC295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EB2D-675D-4847-AC6A-DC1BEAA7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DC7BE-11AB-4753-B1EC-279C9234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A1790-9E3B-41E2-89C8-0F3D4C75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71075-D354-4557-BFF8-C963A473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2CC3F-97E3-4B84-ACB6-13CF338BF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F6834-FBCF-4177-B5DD-1E4F3882D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14877-9686-4D64-ABA4-21C49A222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79367-5302-4FD1-A114-FD13100A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32AFA-27EB-4023-9D7D-B17D1ACB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7837D-46BF-4667-AF87-D1ED4B8C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895CD-7F04-4E7D-8752-A1BE1E4B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EAD1-8647-4A17-A8AB-461DE641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3571D-A5F1-4009-ABF4-450DC672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9F5D9-89A5-491E-932E-94DEC58B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80E53-6CEA-45DF-9207-CE4F0C0C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BA87E-47BF-40EE-823A-36B1D893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3C576-E536-4891-AC9F-0E48A819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4CEA8-AACC-446E-9791-3A95F0141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8687E-F8A8-486D-A410-EDBDF6A77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D9E4A-2ECF-43E6-B05F-867F5C8CA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870DA-8A6D-43F8-9B17-470C4927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0DEE2-B16E-4652-A5A9-B6C8FA70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5E77-1FBE-4594-BE1E-A650F8E366E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7046-0674-4D2C-A079-B759AD86DF4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5B85-484C-42C5-AE6F-A0733E4C44D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5F94-AF99-4391-9652-DAFE07460A6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1A04-5492-40E8-9795-310A49DAA72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4DAB-3D59-4531-8719-74AD640A0CA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777C-C286-4A0F-A401-CDC9FB524A8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3A3E-2B1A-4606-B686-686F4375244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B4ED-2A2C-4FAA-82CE-9BB83FC0109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3CB1-F0E3-44BC-91F6-90383542D88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5C0C-DF2B-4233-BA30-E0E9BD1CF4E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AC7B-5EF9-46EA-AC65-96C6A0A23D1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b1e19"/>
                </a:solidFill>
                <a:latin typeface="Arial"/>
                <a:ea typeface="Arial"/>
              </a:rPr>
              <a:t>O čemu ovisi topl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648320" y="57146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44838"/>
                </a:solidFill>
                <a:latin typeface="Arial"/>
                <a:ea typeface="Arial"/>
              </a:rPr>
              <a:t>Unutarnja energija i toplin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4"/>
          <p:cNvSpPr/>
          <p:nvPr/>
        </p:nvSpPr>
        <p:spPr>
          <a:xfrm>
            <a:off x="380880" y="1447920"/>
            <a:ext cx="853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ko želiš zagrijati četiri litre vode do ključanja, treba li ih na štednjaku zagrijavati dulje nego što bi zagrijavao dvije litre vo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2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3245040" cy="4572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7" descr=""/>
          <p:cNvPicPr/>
          <p:nvPr/>
        </p:nvPicPr>
        <p:blipFill>
          <a:blip r:embed="rId2"/>
          <a:stretch/>
        </p:blipFill>
        <p:spPr>
          <a:xfrm>
            <a:off x="3048120" y="3048120"/>
            <a:ext cx="3504960" cy="24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8"/>
          <p:cNvSpPr/>
          <p:nvPr/>
        </p:nvSpPr>
        <p:spPr>
          <a:xfrm>
            <a:off x="1709640" y="685800"/>
            <a:ext cx="69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Ovisnost 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  <a:ea typeface="Arial"/>
              </a:rPr>
              <a:t>količin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topline o masi tijela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9"/>
          <p:cNvSpPr/>
          <p:nvPr/>
        </p:nvSpPr>
        <p:spPr>
          <a:xfrm>
            <a:off x="1851480" y="4191120"/>
            <a:ext cx="5225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ća količina čaja dat će više top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2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3276360" cy="236376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9"/>
          <p:cNvSpPr/>
          <p:nvPr/>
        </p:nvSpPr>
        <p:spPr>
          <a:xfrm>
            <a:off x="1411560" y="5257800"/>
            <a:ext cx="6170040" cy="642600"/>
          </a:xfrm>
          <a:prstGeom prst="rect">
            <a:avLst/>
          </a:prstGeom>
          <a:solidFill>
            <a:srgbClr val="f2dcdb"/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oličina topline je proporcionalna masi tije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8"/>
          <p:cNvSpPr/>
          <p:nvPr/>
        </p:nvSpPr>
        <p:spPr>
          <a:xfrm>
            <a:off x="1242360" y="425520"/>
            <a:ext cx="665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Ovisnost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  <a:ea typeface="Arial"/>
              </a:rPr>
              <a:t> količin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topline o promje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temperature tijela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877320" y="4191120"/>
            <a:ext cx="71589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Što je veća razlika između temperature čaja i naš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jela, čaj će nam dati više top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9"/>
          <p:cNvSpPr/>
          <p:nvPr/>
        </p:nvSpPr>
        <p:spPr>
          <a:xfrm>
            <a:off x="673920" y="5486400"/>
            <a:ext cx="7797600" cy="642600"/>
          </a:xfrm>
          <a:prstGeom prst="rect">
            <a:avLst/>
          </a:prstGeom>
          <a:solidFill>
            <a:srgbClr val="f2dcdb"/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plina je proporcionalna razlici temperatura dvaju tije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2" descr=""/>
          <p:cNvPicPr/>
          <p:nvPr/>
        </p:nvPicPr>
        <p:blipFill>
          <a:blip r:embed="rId1"/>
          <a:stretch/>
        </p:blipFill>
        <p:spPr>
          <a:xfrm>
            <a:off x="2819520" y="1995480"/>
            <a:ext cx="28954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8"/>
          <p:cNvSpPr/>
          <p:nvPr/>
        </p:nvSpPr>
        <p:spPr>
          <a:xfrm>
            <a:off x="1549440" y="609480"/>
            <a:ext cx="535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Specifični toplinski kapacitet</a:t>
            </a:r>
            <a:r>
              <a:rPr b="0" lang="hr-HR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9"/>
          <p:cNvSpPr/>
          <p:nvPr/>
        </p:nvSpPr>
        <p:spPr>
          <a:xfrm>
            <a:off x="278280" y="1828800"/>
            <a:ext cx="8646480" cy="1739880"/>
          </a:xfrm>
          <a:prstGeom prst="rect">
            <a:avLst/>
          </a:prstGeom>
          <a:solidFill>
            <a:srgbClr val="f2dcdb"/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čni toplinski kapacitet za neku tvar je energija koja 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trebna da se jedan kilogram te tvari zagrije za jedan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Celzij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upanj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(ili jedan kelvi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6"/>
          <p:cNvSpPr/>
          <p:nvPr/>
        </p:nvSpPr>
        <p:spPr>
          <a:xfrm>
            <a:off x="411840" y="342900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nak za specifični toplinski kapacitet -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jerna jedinica  - J/(kg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5"/>
          <p:cNvSpPr/>
          <p:nvPr/>
        </p:nvSpPr>
        <p:spPr>
          <a:xfrm>
            <a:off x="1173600" y="838080"/>
            <a:ext cx="651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pecifični toplinski kapaciteti nekih tvari</a:t>
            </a:r>
            <a:r>
              <a:rPr b="0" lang="hr-HR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1295280" y="1828800"/>
          <a:ext cx="6096240" cy="33368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RSTA TV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/(kg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 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koh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 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l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r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umin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Željez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lo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Box 1"/>
          <p:cNvSpPr/>
          <p:nvPr/>
        </p:nvSpPr>
        <p:spPr>
          <a:xfrm>
            <a:off x="2239560" y="642960"/>
            <a:ext cx="51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Arial"/>
                <a:ea typeface="Arial"/>
              </a:rPr>
              <a:t>Formul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za količinu top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Object 5"/>
              <p:cNvSpPr txBox="1"/>
              <p:nvPr/>
            </p:nvSpPr>
            <p:spPr>
              <a:xfrm>
                <a:off x="990720" y="2540160"/>
                <a:ext cx="312408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Object 6"/>
              <p:cNvSpPr txBox="1"/>
              <p:nvPr/>
            </p:nvSpPr>
            <p:spPr>
              <a:xfrm>
                <a:off x="990720" y="1752480"/>
                <a:ext cx="22096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24" name="Picture 7" descr=""/>
          <p:cNvPicPr/>
          <p:nvPr/>
        </p:nvPicPr>
        <p:blipFill>
          <a:blip r:embed="rId1"/>
          <a:stretch/>
        </p:blipFill>
        <p:spPr>
          <a:xfrm>
            <a:off x="5105520" y="2971800"/>
            <a:ext cx="2438280" cy="1781280"/>
          </a:xfrm>
          <a:prstGeom prst="rect">
            <a:avLst/>
          </a:prstGeom>
          <a:ln w="0">
            <a:noFill/>
          </a:ln>
        </p:spPr>
      </p:pic>
      <p:sp>
        <p:nvSpPr>
          <p:cNvPr id="525" name="TextBox 8"/>
          <p:cNvSpPr/>
          <p:nvPr/>
        </p:nvSpPr>
        <p:spPr>
          <a:xfrm>
            <a:off x="4246560" y="4800600"/>
            <a:ext cx="41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ergija potrebna da se 1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g vo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agrije za 1K iznosi 4 200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Box 2"/>
          <p:cNvSpPr/>
          <p:nvPr/>
        </p:nvSpPr>
        <p:spPr>
          <a:xfrm>
            <a:off x="196920" y="1523880"/>
            <a:ext cx="8947080" cy="13132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oliko je topline potrebno da se voda mase 2 kg zagrije od ledišta do vreliš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čni toplinski kapacitet vode je 4 200 J/(kg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3"/>
          <p:cNvSpPr/>
          <p:nvPr/>
        </p:nvSpPr>
        <p:spPr>
          <a:xfrm>
            <a:off x="609480" y="3048120"/>
            <a:ext cx="5181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ješen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0 ºC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100 º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100 ºC – 0 ºC = 100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º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 kg ·4 200 J/(kgK) ·100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840 000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Slika 1" descr=""/>
          <p:cNvPicPr/>
          <p:nvPr/>
        </p:nvPicPr>
        <p:blipFill>
          <a:blip r:embed="rId1"/>
          <a:stretch/>
        </p:blipFill>
        <p:spPr>
          <a:xfrm>
            <a:off x="198360" y="995400"/>
            <a:ext cx="101592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Box 3"/>
          <p:cNvSpPr/>
          <p:nvPr/>
        </p:nvSpPr>
        <p:spPr>
          <a:xfrm>
            <a:off x="-184680" y="1676520"/>
            <a:ext cx="941004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 čemu ovisi toplina koju tijelo primi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Što je specifični toplinski kapacite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ja je mjerna jedinica za specifični toplinski kapacite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Uronimo u vruću vodu jednake kuglice, jednu načinjenu o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aluminija, a drugu od željeza. Nakon nekog vremena izvadim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kuglice iz vode. Hoće li biti zagrijane na jednaku temperaturu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Slika 1" descr=""/>
          <p:cNvPicPr/>
          <p:nvPr/>
        </p:nvPicPr>
        <p:blipFill>
          <a:blip r:embed="rId1"/>
          <a:stretch/>
        </p:blipFill>
        <p:spPr>
          <a:xfrm>
            <a:off x="241200" y="990720"/>
            <a:ext cx="3102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42:31Z</dcterms:created>
  <dc:creator>Slavko</dc:creator>
  <dc:description/>
  <dc:language>en-US</dc:language>
  <cp:lastModifiedBy>Tomislav Dumančić</cp:lastModifiedBy>
  <dcterms:modified xsi:type="dcterms:W3CDTF">2019-09-17T08:53:17Z</dcterms:modified>
  <cp:revision>45</cp:revision>
  <dc:subject/>
  <dc:title>Slide 1</dc:title>
</cp:coreProperties>
</file>